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44B5-F372-4CAD-929F-DC6DE4250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9EA-40D9-4303-AB5E-51F141864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564-4CFE-4149-A5E3-6B55F78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DEA-EBCF-407A-B355-05039FAB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D0C-75F9-4F94-9E6A-8145180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267-F54F-4063-B694-C5007D5C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E1D-4793-41E2-802A-17DE9BBF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482-D1E7-432D-8ACF-EE5374D6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9DC-10E4-423E-A2C0-FCDF2C5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AAD-E6F2-4FEB-AB32-E2024DC3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CB9-057F-4E85-913D-6F39837D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64E-386B-4F99-910B-4A8793D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B28-F6B3-475C-838A-496A09C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EC7-AC4A-491B-94D5-BFF944E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563E-DDFE-4492-9B84-4610C1E00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FD4B-1F8D-4166-933D-04BD34EE1D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49320" y="1844640"/>
            <a:ext cx="7416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103</a:t>
            </a: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學年度第一學期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林美真 校長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08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77880" y="1628280"/>
            <a:ext cx="778824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03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Arial"/>
              </a:rPr>
              <a:t>學年度校務發展之學校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1.</a:t>
            </a: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北海岸學子第一志願的學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北海岸國際遊學中心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95B-E240-4324-BAF5-859D4E3AFA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532560" y="244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三、校務重點工作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4560" y="1446120"/>
            <a:ext cx="7272360" cy="244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一、課程發展：拔尖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固本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扶弱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1.</a:t>
            </a: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金中雲端教育平台</a:t>
            </a:r>
            <a:r>
              <a:rPr b="1" lang="en-US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..</a:t>
            </a: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服務學習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2.</a:t>
            </a: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差異化教學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3.</a:t>
            </a: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補救教學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4.</a:t>
            </a: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閱讀推動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   </a:t>
            </a:r>
            <a:br>
              <a:rPr sz="2800"/>
            </a:br>
            <a:br>
              <a:rPr sz="40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532560" y="244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三、校務重點工作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258920" y="9018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3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一學期校務發展重點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63720" y="4221000"/>
            <a:ext cx="7272360" cy="2376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二、學生展能：品德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服務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多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  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1.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校園作息有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     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2.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i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探索服務學習方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     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3.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社團及技藝課程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              </a:t>
            </a: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~~</a:t>
            </a: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走出校園 </a:t>
            </a:r>
            <a:br>
              <a:rPr sz="40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304-8A1E-4189-B83A-97B9D3EB5C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79320" y="1701720"/>
            <a:ext cx="7425000" cy="2087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三、專業成長：領域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社群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評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1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.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教學研究會之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新細明體"/>
              </a:rPr>
              <a:t>分享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新細明體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          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2.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主題社群之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超研澤中圓"/>
              </a:rPr>
              <a:t>研究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          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3.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評鑑之</a:t>
            </a:r>
            <a:r>
              <a:rPr b="1" lang="zh-TW" sz="2800" spc="-1" strike="noStrike">
                <a:solidFill>
                  <a:srgbClr val="ff0000"/>
                </a:solidFill>
                <a:latin typeface="新細明體"/>
                <a:ea typeface="超研澤中圓"/>
              </a:rPr>
              <a:t>成長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功能 </a:t>
            </a:r>
            <a:r>
              <a:rPr b="1" lang="en-US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..1013</a:t>
            </a:r>
            <a:r>
              <a:rPr b="1" lang="zh-TW" sz="2800" spc="-1" strike="noStrike">
                <a:solidFill>
                  <a:srgbClr val="222268"/>
                </a:solidFill>
                <a:latin typeface="新細明體"/>
                <a:ea typeface="超研澤中圓"/>
              </a:rPr>
              <a:t>校長評鑑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</a:t>
            </a:r>
            <a:br>
              <a:rPr sz="40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679320" y="4005360"/>
            <a:ext cx="7425000" cy="2232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四、資源整合：垂直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</a:rPr>
              <a:t>.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</a:rPr>
              <a:t>水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.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專案計畫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: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門窗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化糞池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濕滑地面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英語情境教室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.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飲調教室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..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國際遊學中心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..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停車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超研澤中圓"/>
              </a:rPr>
              <a:t>組織校友會</a:t>
            </a:r>
            <a:br>
              <a:rPr sz="20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831960" y="90792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3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第一學期校務發展重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540480" y="2397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三、校務重點工作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55A-86B3-4277-9684-7B130C937A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C:\Users\cshs-pcp\Desktop\2014-6-18-15-44-27-pic5[1].jpg"/>
          <p:cNvPicPr/>
          <p:nvPr/>
        </p:nvPicPr>
        <p:blipFill>
          <a:blip r:embed="rId1"/>
          <a:stretch/>
        </p:blipFill>
        <p:spPr>
          <a:xfrm>
            <a:off x="735120" y="620640"/>
            <a:ext cx="8159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006D-F015-44AC-ADCE-6AF85DCFE5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4960" y="1699920"/>
            <a:ext cx="56739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學校現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546360" y="28018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二、教育政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330800" y="404820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三、校務重點工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班級數及學生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58920" y="1773360"/>
          <a:ext cx="6626160" cy="3603600"/>
        </p:xfrm>
        <a:graphic>
          <a:graphicData uri="http://schemas.openxmlformats.org/drawingml/2006/table">
            <a:tbl>
              <a:tblPr/>
              <a:tblGrid>
                <a:gridCol w="946080"/>
                <a:gridCol w="947880"/>
                <a:gridCol w="946080"/>
                <a:gridCol w="946080"/>
                <a:gridCol w="946080"/>
                <a:gridCol w="947880"/>
                <a:gridCol w="946080"/>
              </a:tblGrid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年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國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國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國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高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高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高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6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班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人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備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..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另國高中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特殊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..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國中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630</a:t>
                      </a:r>
                      <a:r>
                        <a:rPr b="1" lang="zh-TW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人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.</a:t>
                      </a:r>
                      <a:r>
                        <a:rPr b="1" lang="zh-TW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r>
                        <a:rPr b="1" lang="zh-TW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高中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508</a:t>
                      </a:r>
                      <a:r>
                        <a:rPr b="1" lang="zh-TW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人 共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1138</a:t>
                      </a:r>
                      <a:r>
                        <a:rPr b="1" lang="zh-TW" sz="2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矩形 1"/>
          <p:cNvSpPr/>
          <p:nvPr/>
        </p:nvSpPr>
        <p:spPr>
          <a:xfrm>
            <a:off x="6525360" y="81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、學校現況說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ACD-61F1-4C65-8FB9-1843C7731C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職員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03280" y="1844640"/>
          <a:ext cx="6865920" cy="3424320"/>
        </p:xfrm>
        <a:graphic>
          <a:graphicData uri="http://schemas.openxmlformats.org/drawingml/2006/table">
            <a:tbl>
              <a:tblPr/>
              <a:tblGrid>
                <a:gridCol w="1152720"/>
                <a:gridCol w="1008000"/>
                <a:gridCol w="1008000"/>
                <a:gridCol w="865080"/>
                <a:gridCol w="935280"/>
                <a:gridCol w="865080"/>
                <a:gridCol w="103176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分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國中教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高中教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職員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約聘僱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校長教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合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編制員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  <a:ea typeface="新細明體"/>
                        </a:rPr>
                        <a:t>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含專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  <a:ea typeface="新細明體"/>
                        </a:rPr>
                        <a:t>5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含專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1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494000">
                <a:tc gridSpan="7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研究所學歷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新細明體"/>
                        </a:rPr>
                        <a:t>54.21%.</a:t>
                      </a:r>
                      <a:r>
                        <a:rPr b="1" lang="zh-TW" sz="2400" spc="-1" strike="noStrike">
                          <a:solidFill>
                            <a:srgbClr val="c00000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.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學學歷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5.79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正式教師人數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新細明體"/>
                        </a:rPr>
                        <a:t>89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人      代理教師人數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平均年齡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新細明體"/>
                        </a:rPr>
                        <a:t>38.7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矩形 1"/>
          <p:cNvSpPr/>
          <p:nvPr/>
        </p:nvSpPr>
        <p:spPr>
          <a:xfrm>
            <a:off x="6671520" y="4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、學校現況說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5FC4-6BA6-4D0E-B956-4B5409DCC5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4360" y="692280"/>
          <a:ext cx="7848360" cy="5473440"/>
        </p:xfrm>
        <a:graphic>
          <a:graphicData uri="http://schemas.openxmlformats.org/drawingml/2006/table">
            <a:tbl>
              <a:tblPr/>
              <a:tblGrid>
                <a:gridCol w="1385640"/>
                <a:gridCol w="1416240"/>
                <a:gridCol w="1114200"/>
                <a:gridCol w="1114560"/>
                <a:gridCol w="1300320"/>
                <a:gridCol w="15174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課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願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</a:t>
                      </a:r>
                      <a:r>
                        <a:rPr b="1" i="1" lang="zh-TW" sz="32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愛</a:t>
                      </a:r>
                      <a:r>
                        <a:rPr b="1" i="1" lang="en-US" sz="32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.</a:t>
                      </a:r>
                      <a:r>
                        <a:rPr b="1" i="1" lang="zh-TW" sz="32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探索</a:t>
                      </a:r>
                      <a:r>
                        <a:rPr b="1" i="1" lang="zh-TW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教育學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願景發展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探索北海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健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珍愛全人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關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開創新金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多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願景具體目   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探索我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珍愛自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珍愛他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開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新世紀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開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新世界公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核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生涯發展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健康促進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關懷服務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閱讀學習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國際交流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2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專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計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生涯教育發展計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健康促進學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服務學習計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閱讀推動計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優質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新細明體"/>
                        </a:rPr>
                        <a:t>特色領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4" name="矩形 4"/>
          <p:cNvSpPr/>
          <p:nvPr/>
        </p:nvSpPr>
        <p:spPr>
          <a:xfrm>
            <a:off x="6671520" y="4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、學校現況說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6E56-656E-4940-B98F-F6E78467A2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052640"/>
          <a:ext cx="8137440" cy="4467240"/>
        </p:xfrm>
        <a:graphic>
          <a:graphicData uri="http://schemas.openxmlformats.org/drawingml/2006/table">
            <a:tbl>
              <a:tblPr/>
              <a:tblGrid>
                <a:gridCol w="863640"/>
                <a:gridCol w="1584360"/>
                <a:gridCol w="1441440"/>
                <a:gridCol w="1330200"/>
                <a:gridCol w="1333440"/>
                <a:gridCol w="1584360"/>
              </a:tblGrid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階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閱讀學習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健康促進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關懷服務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生涯發展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國際交流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國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學會尋找書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健康新食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家庭之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自我察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戀戀金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國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培養閱讀習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健康樂運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友善校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生涯察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發現在地新文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國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分享閱讀心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健康新體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社區之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生涯探索與進路選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遊賞多元文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高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發展閱讀策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健康體適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台灣同胞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自我探索與分流輔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探索北海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高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組織實踐共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健康新人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世界一家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生涯抉擇與進路輔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與世界對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高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新細明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增進思辨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健康人生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地球生態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升學規畫與職業選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走進地球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7" name="矩形 5"/>
          <p:cNvSpPr/>
          <p:nvPr/>
        </p:nvSpPr>
        <p:spPr>
          <a:xfrm>
            <a:off x="6671520" y="4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、學校現況說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1884-AC81-4742-BE83-8182603FF4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93880" y="743040"/>
            <a:ext cx="5554800" cy="5370480"/>
          </a:xfrm>
          <a:prstGeom prst="rect">
            <a:avLst/>
          </a:prstGeom>
          <a:ln w="0">
            <a:noFill/>
          </a:ln>
        </p:spPr>
      </p:pic>
      <p:sp>
        <p:nvSpPr>
          <p:cNvPr id="70" name="文字方塊 2"/>
          <p:cNvSpPr/>
          <p:nvPr/>
        </p:nvSpPr>
        <p:spPr>
          <a:xfrm>
            <a:off x="6443640" y="2276640"/>
            <a:ext cx="1381320" cy="47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世界交流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字方塊 2"/>
          <p:cNvSpPr/>
          <p:nvPr/>
        </p:nvSpPr>
        <p:spPr>
          <a:xfrm>
            <a:off x="1979640" y="2038320"/>
            <a:ext cx="1457280" cy="47628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關懷服務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字方塊 2"/>
          <p:cNvSpPr/>
          <p:nvPr/>
        </p:nvSpPr>
        <p:spPr>
          <a:xfrm>
            <a:off x="3855960" y="2714760"/>
            <a:ext cx="1390680" cy="476280"/>
          </a:xfrm>
          <a:prstGeom prst="rect">
            <a:avLst/>
          </a:prstGeom>
          <a:solidFill>
            <a:srgbClr val="e4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生涯發展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字方塊 2"/>
          <p:cNvSpPr/>
          <p:nvPr/>
        </p:nvSpPr>
        <p:spPr>
          <a:xfrm>
            <a:off x="6657840" y="3741840"/>
            <a:ext cx="1381320" cy="47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閱讀學習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476360" y="5157720"/>
            <a:ext cx="1362240" cy="486000"/>
          </a:xfrm>
          <a:prstGeom prst="rect">
            <a:avLst/>
          </a:prstGeom>
          <a:ln w="0">
            <a:noFill/>
          </a:ln>
        </p:spPr>
      </p:pic>
      <p:sp>
        <p:nvSpPr>
          <p:cNvPr id="75" name="文字方塊 4"/>
          <p:cNvSpPr/>
          <p:nvPr/>
        </p:nvSpPr>
        <p:spPr>
          <a:xfrm>
            <a:off x="324000" y="126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Times New Roman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671520" y="4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一、學校現況說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92360" y="764640"/>
            <a:ext cx="3311640" cy="1366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在新北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在地最幸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989000"/>
            <a:ext cx="896472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新北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教育實踐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美感教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感教育種子學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年度教育局擴大推動「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學習共同體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」政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局求各校：落實推動「學生禮貌守則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每週學生參與體育活動應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分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園安全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敬師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藝術教育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資訊科技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4CA-0A58-4FBF-A2F6-40C41C8D6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224120" y="130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二、教育政策宣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06FB-EA0D-4906-8E18-B8FED997D5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252360" y="162000"/>
            <a:ext cx="9612360" cy="669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7443360" y="162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二、教育政策宣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User</cp:lastModifiedBy>
  <dcterms:modified xsi:type="dcterms:W3CDTF">2014-08-25T08:26:14Z</dcterms:modified>
  <cp:revision>547</cp:revision>
  <dc:subject/>
  <dc:title>初級資訊種子學校 第三次執行情形研討會</dc:title>
</cp:coreProperties>
</file>